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0DA-DBCB-4827-89C4-15EFC319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414-D57B-4691-8305-44476E09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F80-5215-49C1-90EA-148D11D7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A03-1774-4AC3-B055-B5A5836B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07A6-8CEC-495E-9E6F-01BD8C8F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C850-1E95-4523-B2CB-1679E7E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3612-A55C-455E-8BC9-E56967A1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035A-4005-4A91-A22A-006FEF4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95E7-B12D-4FD4-8ACA-878EE8E5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2E53-65FF-42A8-95FE-69EA932C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A603-FCC3-4FE4-8BE3-628065C0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413-54FC-4F82-969D-502DC985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4915-0FBC-4C09-9F3C-C1B85AB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94A8-01B6-463B-8336-B3D18FC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3024-A5C3-43FC-AB43-FC3FED76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8751-A2B5-4963-B5FF-52B7CD98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C556-A144-4794-A54C-8BB28543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1B9-F3E1-432D-A447-87E383B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456-5563-4B66-AB68-4437DC1A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801-08AC-4C2A-81D6-D9DAED7E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1A2-295F-450B-B822-DC3E1149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AF9-0B8B-4890-AD0A-3A41A393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090-78F1-48CF-A3BD-E6FEE1AD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470-0A05-4944-ADF7-0FA5471B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F0168E-AC4B-4618-889F-D087A76F12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123033-CF6B-4568-AC0B-806F697F08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grpSp>
        <p:nvGrpSpPr>
          <p:cNvPr id="100" name="Organization Chart 88"/>
          <p:cNvGrpSpPr/>
          <p:nvPr/>
        </p:nvGrpSpPr>
        <p:grpSpPr>
          <a:xfrm>
            <a:off x="428760" y="-14400"/>
            <a:ext cx="8715240" cy="6729120"/>
            <a:chOff x="428760" y="-14400"/>
            <a:chExt cx="8715240" cy="6729120"/>
          </a:xfrm>
        </p:grpSpPr>
        <p:cxnSp>
          <p:nvCxnSpPr>
            <p:cNvPr id="101" name="_s1028"/>
            <p:cNvCxnSpPr>
              <a:stCxn id="102" idx="0"/>
              <a:endCxn id="103" idx="0"/>
            </p:cNvCxnSpPr>
            <p:nvPr/>
          </p:nvCxnSpPr>
          <p:spPr>
            <a:xfrm flipV="1" rot="16200000">
              <a:off x="5162040" y="3301560"/>
              <a:ext cx="2437920" cy="1138320"/>
            </a:xfrm>
            <a:prstGeom prst="bentConnector4">
              <a:avLst>
                <a:gd name="adj1" fmla="val 16659"/>
                <a:gd name="adj2" fmla="val 120088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1"/>
            </p:cNvCxnSpPr>
            <p:nvPr/>
          </p:nvCxnSpPr>
          <p:spPr>
            <a:xfrm flipH="1" flipV="1" rot="5400000">
              <a:off x="4264560" y="3542400"/>
              <a:ext cx="2437920" cy="657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0"/>
            </p:cNvCxnSpPr>
            <p:nvPr/>
          </p:nvCxnSpPr>
          <p:spPr>
            <a:xfrm flipV="1" rot="16200000">
              <a:off x="1573200" y="3301920"/>
              <a:ext cx="2437920" cy="1137960"/>
            </a:xfrm>
            <a:prstGeom prst="bentConnector4">
              <a:avLst>
                <a:gd name="adj1" fmla="val 16659"/>
                <a:gd name="adj2" fmla="val 120094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8" idx="1"/>
            </p:cNvCxnSpPr>
            <p:nvPr/>
          </p:nvCxnSpPr>
          <p:spPr>
            <a:xfrm flipH="1" flipV="1" rot="5400000">
              <a:off x="675360" y="3542400"/>
              <a:ext cx="2437920" cy="6573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1" name="_s1032"/>
            <p:cNvCxnSpPr>
              <a:stCxn id="112" idx="0"/>
              <a:endCxn id="113" idx="0"/>
            </p:cNvCxnSpPr>
            <p:nvPr/>
          </p:nvCxnSpPr>
          <p:spPr>
            <a:xfrm flipV="1" rot="16200000">
              <a:off x="4712760" y="-481680"/>
              <a:ext cx="2438280" cy="38296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4" name="_s1033"/>
            <p:cNvCxnSpPr>
              <a:stCxn id="103" idx="2"/>
              <a:endCxn id="113" idx="1"/>
            </p:cNvCxnSpPr>
            <p:nvPr/>
          </p:nvCxnSpPr>
          <p:spPr>
            <a:xfrm flipV="1" rot="16200000">
              <a:off x="3815640" y="415800"/>
              <a:ext cx="2438280" cy="20350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5" name="_s1034"/>
            <p:cNvCxnSpPr>
              <a:stCxn id="108" idx="2"/>
              <a:endCxn id="113" idx="2"/>
            </p:cNvCxnSpPr>
            <p:nvPr/>
          </p:nvCxnSpPr>
          <p:spPr>
            <a:xfrm flipH="1" flipV="1" rot="5400000">
              <a:off x="2021040" y="656280"/>
              <a:ext cx="2438280" cy="15544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_s1035"/>
            <p:cNvCxnSpPr>
              <a:stCxn id="117" idx="0"/>
              <a:endCxn id="113" idx="3"/>
            </p:cNvCxnSpPr>
            <p:nvPr/>
          </p:nvCxnSpPr>
          <p:spPr>
            <a:xfrm flipH="1" flipV="1" rot="5400000">
              <a:off x="1123920" y="-240840"/>
              <a:ext cx="2438280" cy="3348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4017240" y="21420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</a:t>
              </a:r>
              <a:endParaRPr b="0" lang="en-US" sz="20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42876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ИЗМЕНЯЕТС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222300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степени сравнения</a:t>
              </a:r>
              <a:endParaRPr b="0" lang="en-US" sz="19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81184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значает </a:t>
              </a:r>
              <a:endParaRPr b="0" lang="en-US" sz="14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2" name="_s1040"/>
            <p:cNvSpPr/>
            <p:nvPr/>
          </p:nvSpPr>
          <p:spPr>
            <a:xfrm>
              <a:off x="7606440" y="265212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предложении является обстоятельством</a:t>
              </a:r>
              <a:endParaRPr b="0" lang="en-US" sz="11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13258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авнитель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7" name="_s1042"/>
            <p:cNvSpPr/>
            <p:nvPr/>
          </p:nvSpPr>
          <p:spPr>
            <a:xfrm>
              <a:off x="31204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восход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5" name="_s1043"/>
            <p:cNvSpPr/>
            <p:nvPr/>
          </p:nvSpPr>
          <p:spPr>
            <a:xfrm>
              <a:off x="49150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признака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2" name="_s1044"/>
            <p:cNvSpPr/>
            <p:nvPr/>
          </p:nvSpPr>
          <p:spPr>
            <a:xfrm>
              <a:off x="6709680" y="508968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действи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9720" y="1500120"/>
            <a:ext cx="7774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6000" spc="-1" strike="noStrike">
                <a:solidFill>
                  <a:srgbClr val="e70000"/>
                </a:solidFill>
                <a:latin typeface="Bookman Old Style"/>
              </a:rPr>
              <a:t>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дк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ред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ч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"/>
          <p:cNvCxnSpPr/>
          <p:nvPr/>
        </p:nvCxnSpPr>
        <p:spPr>
          <a:xfrm flipH="1" flipV="1">
            <a:off x="4071240" y="1999440"/>
            <a:ext cx="857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5"/>
          <p:cNvCxnSpPr/>
          <p:nvPr/>
        </p:nvCxnSpPr>
        <p:spPr>
          <a:xfrm flipH="1" flipV="1">
            <a:off x="3928680" y="264240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/>
          <p:nvPr/>
        </p:nvCxnSpPr>
        <p:spPr>
          <a:xfrm flipH="1" flipV="1">
            <a:off x="3571560" y="5214600"/>
            <a:ext cx="1072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 flipH="1" flipV="1">
            <a:off x="3499560" y="442836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85960" y="357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Алгоритм рассуждения </a:t>
            </a:r>
            <a:endParaRPr b="0" lang="en-US" sz="3600" spc="-1" strike="noStrike">
              <a:solidFill>
                <a:srgbClr val="ffffe1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00080"/>
          <a:ext cx="8786880" cy="5357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75146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мотрим, есть ли в наречии приставки ИЗ-, ДО-, С-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а                                нет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ассуждаю дальше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Смотрим, как образовано наречие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т бесприставочного прилаг.            от прилагательного с приставкой</a:t>
                      </a:r>
                      <a:endParaRPr b="0" lang="en-US" sz="2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	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ишу А                          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8" name="Прямая со стрелкой 26"/>
          <p:cNvCxnSpPr/>
          <p:nvPr/>
        </p:nvCxnSpPr>
        <p:spPr>
          <a:xfrm flipH="1">
            <a:off x="2142360" y="1784880"/>
            <a:ext cx="7153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8"/>
          <p:cNvCxnSpPr/>
          <p:nvPr/>
        </p:nvCxnSpPr>
        <p:spPr>
          <a:xfrm>
            <a:off x="4785840" y="1785600"/>
            <a:ext cx="7866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9"/>
          <p:cNvCxnSpPr/>
          <p:nvPr/>
        </p:nvCxnSpPr>
        <p:spPr>
          <a:xfrm flipH="1">
            <a:off x="2285640" y="4570920"/>
            <a:ext cx="1572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30"/>
          <p:cNvCxnSpPr/>
          <p:nvPr/>
        </p:nvCxnSpPr>
        <p:spPr>
          <a:xfrm>
            <a:off x="6286680" y="4500360"/>
            <a:ext cx="10720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1"/>
          <p:cNvCxnSpPr/>
          <p:nvPr/>
        </p:nvCxnSpPr>
        <p:spPr>
          <a:xfrm flipH="1">
            <a:off x="5571360" y="2786040"/>
            <a:ext cx="252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>
            <a:off x="2284200" y="271476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28840" y="1857240"/>
            <a:ext cx="735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43, упр. 271, стр. 112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мы редко ездили отдыхать на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изредка показывалось из-за туч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ва возвышались горы, справа чернела пропа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смотрел налево, потом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 метнулся впр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был вытерт досу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солнечно, сухо и пы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ово начал писать сочи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нова начался дождь.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ко, изредка, слева, справа, налево, направо, вправо, досуха, сухо, заново,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а конце однокоренных наречий разные глас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должны выяснить? Поставьте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Буквы о, а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на конце наречий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11040" y="3997440"/>
            <a:ext cx="1128960" cy="1942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1571760" y="4000680"/>
            <a:ext cx="70722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Цель: научиться правильно писать буквы О и А на конце наречий</a:t>
            </a:r>
            <a:endParaRPr b="0" lang="en-US" sz="32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5160" y="4572000"/>
            <a:ext cx="119700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29336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0680" algn="ctr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в-, на-, за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-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 на ко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 algn="ctr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из-, до-, с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-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на конце слова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94920"/>
            <a:ext cx="77738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Bookman Old Style"/>
              </a:rPr>
              <a:t>Подтвердите выведенное правило примера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ле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изредк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дочи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запро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впра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напевн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4:47Z</dcterms:created>
  <dc:creator>User</dc:creator>
  <dc:description/>
  <dc:language>en-US</dc:language>
  <cp:lastModifiedBy>User</cp:lastModifiedBy>
  <dcterms:modified xsi:type="dcterms:W3CDTF">2014-03-04T17:36:00Z</dcterms:modified>
  <cp:revision>24</cp:revision>
  <dc:subject/>
  <dc:title>Буквы о, а на конце наречий</dc:title>
</cp:coreProperties>
</file>